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520-2206-41E3-979C-FB58B845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304-BFC6-4D70-B102-2A2A02AA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416-1C92-47FC-90CB-35DD50B7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873-FAF8-48DE-A4C1-04C35B78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DEE7-DCB8-473E-A03C-09E4E095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513C-2143-477F-828A-28FCF439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B805-8175-4954-B5C3-3ED4D558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17CA-A759-4F28-AB34-29F1589C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B41F-4D28-4A26-8FB1-DA5F20BA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1D63-4E49-4A27-B2CE-BA233710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55E5-7A2D-412A-B202-0CEB49BE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67C-C57A-4189-9C16-2C00D9A3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CB20-2745-4EF2-9C44-2607ACFC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1B51-F8DA-48B6-8A56-C1EDE73C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3589-D040-4716-AC9F-3E0BB9F8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3E89-70EC-42CC-B9DE-ADDEA47F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7AC9-420E-497E-ACB2-82763E03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1CA-4857-41E4-A02B-D6127715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488-9182-4B7B-8738-E5BF7C86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5F1-CC2C-4CE5-8321-D914615C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3CC-D9B2-4ABF-BDB0-62B22E38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3D7-D27C-4842-8859-F13D9260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DA3-5B6C-499D-97A9-A2808EDF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EDD-D082-489B-B6C6-91146BCC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84C0-6FE9-4814-9F8D-30BF3020F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C77E-46AF-4CD2-9AC3-57D755F13F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461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A NEED TO RECYCLE, REDUSE , AND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reduce%20reuse%20recycle"/>
          <p:cNvPicPr/>
          <p:nvPr/>
        </p:nvPicPr>
        <p:blipFill>
          <a:blip r:embed="rId1"/>
          <a:stretch/>
        </p:blipFill>
        <p:spPr>
          <a:xfrm>
            <a:off x="1600200" y="2057400"/>
            <a:ext cx="57006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e7ff"/>
                </a:solidFill>
                <a:latin typeface="Andy"/>
              </a:rPr>
              <a:t>A NEED TO RECYCL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WHAT DOES IT MEAN TO RECYC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WHY SHOULD WE REUSE ITE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WHAT DOES IT MEAN TO REDU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WHY SHOULD WE RECYC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HOW CAN WE HEL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recycle"/>
          <p:cNvPicPr/>
          <p:nvPr/>
        </p:nvPicPr>
        <p:blipFill>
          <a:blip r:embed="rId1"/>
          <a:stretch/>
        </p:blipFill>
        <p:spPr>
          <a:xfrm>
            <a:off x="7010280" y="4343400"/>
            <a:ext cx="147636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ndy"/>
              </a:rPr>
              <a:t>WHAT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ndy"/>
              </a:rPr>
              <a:t>DOES IT MEAN TO RECYCLE?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RECYCLING MEANS TO USE MATERIALS AGAIN TO MAKE SOMETHING NE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7" descr="earth_walking_lg_nwm"/>
          <p:cNvPicPr/>
          <p:nvPr/>
        </p:nvPicPr>
        <p:blipFill>
          <a:blip r:embed="rId1"/>
          <a:stretch/>
        </p:blipFill>
        <p:spPr>
          <a:xfrm>
            <a:off x="3657600" y="45720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ndy"/>
              </a:rPr>
              <a:t>WHY SHOULD WE REUSE ITEMS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PRODUCTS THAT STAY USEFUL REDUCE THE DEMAND FOR NEW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REUSING ITEMS ALSO EXTEND THE PRODUCTS NEED TO BE RECYCLED OR THROWED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tr_reduce"/>
          <p:cNvPicPr/>
          <p:nvPr/>
        </p:nvPicPr>
        <p:blipFill>
          <a:blip r:embed="rId1"/>
          <a:stretch/>
        </p:blipFill>
        <p:spPr>
          <a:xfrm>
            <a:off x="4191120" y="4343400"/>
            <a:ext cx="1933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ndy"/>
              </a:rPr>
              <a:t>WHAT DOES IT MEAN TO REDUC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406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REDUCTION MEANS TO MAKE SOMETHING SMA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USE SOMETHING LESS OF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cans"/>
          <p:cNvPicPr/>
          <p:nvPr/>
        </p:nvPicPr>
        <p:blipFill>
          <a:blip r:embed="rId1"/>
          <a:stretch/>
        </p:blipFill>
        <p:spPr>
          <a:xfrm>
            <a:off x="2971800" y="4419720"/>
            <a:ext cx="27432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ndy"/>
              </a:rPr>
              <a:t>Where does it go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of our garbage ends up in landf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the garbage is taken to 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nerator where it is bur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recycle3"/>
          <p:cNvPicPr/>
          <p:nvPr/>
        </p:nvPicPr>
        <p:blipFill>
          <a:blip r:embed="rId1"/>
          <a:stretch/>
        </p:blipFill>
        <p:spPr>
          <a:xfrm>
            <a:off x="762120" y="4191120"/>
            <a:ext cx="3657600" cy="2133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urning"/>
          <p:cNvPicPr/>
          <p:nvPr/>
        </p:nvPicPr>
        <p:blipFill>
          <a:blip r:embed="rId2"/>
          <a:stretch/>
        </p:blipFill>
        <p:spPr>
          <a:xfrm>
            <a:off x="5257800" y="4191120"/>
            <a:ext cx="32004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ndy"/>
              </a:rPr>
              <a:t>HOW CAN WE HELP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854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help by learning more about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ing the three “R”s of 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, reuse, and re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1310277512"/>
          <p:cNvPicPr/>
          <p:nvPr/>
        </p:nvPicPr>
        <p:blipFill>
          <a:blip r:embed="rId1"/>
          <a:stretch/>
        </p:blipFill>
        <p:spPr>
          <a:xfrm>
            <a:off x="3352680" y="4343400"/>
            <a:ext cx="2819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2:07:25Z</dcterms:created>
  <dc:creator>Robin Yvonne Anderson</dc:creator>
  <dc:description/>
  <dc:language>en-US</dc:language>
  <cp:lastModifiedBy>MEB</cp:lastModifiedBy>
  <dcterms:modified xsi:type="dcterms:W3CDTF">2011-05-02T12:08:18Z</dcterms:modified>
  <cp:revision>9</cp:revision>
  <dc:subject/>
  <dc:title>A NEED TO RECYCLE</dc:title>
</cp:coreProperties>
</file>